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D0C-C784-406E-808B-795E1BAE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535-C0C6-4FE0-83AF-136CCBFB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7B6-6274-42D4-B780-8A3F2664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802-CBB5-4FF0-A697-4251FB3F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C36-BBB7-4BDE-B21D-1FB93DA8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D15-0C47-41AD-B474-E6439A50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E2B-E6E0-4409-8312-D8BC8EA3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083-1199-434F-8075-9E474325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9C5-6D3B-4CD1-BE33-B79EB0BF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6F5-DC45-4F8A-BE99-F228844D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0A3-22E1-4533-A822-5A0596E8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034-2A03-462F-B60E-FA02A0DD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CC71-BDAA-402D-A279-4FCB90ADE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205891gyyyQAlXVQ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90440" y="0"/>
            <a:ext cx="902952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رفعت عيني إلى الجبال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من حيث يأتي عوني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معونتي من عند الربّ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صانعِ السما والأرض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لا يدع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رجلك تَزِِل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ا ينعس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ا ي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ر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يحفظك، الرب ستر 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ا تؤذيك الشمس ف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نها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ولا القمر في اللي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يحفظك الرب من كل سوءٍ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يحفظ الربُّ نفسك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 (Arabic)"/>
                <a:cs typeface="Times New Roman (Arabic)"/>
              </a:rPr>
              <a:t>يحفظ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ربُّ ذهابَك وإيابَك، من الآن وإلى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 (Arabic)"/>
                <a:cs typeface="Times New Roman (Arabic)"/>
              </a:rPr>
              <a:t>الأب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1-20T00:56:00Z</dcterms:modified>
  <cp:revision>9</cp:revision>
  <dc:subject/>
  <dc:title>PowerPoint Presentation</dc:title>
</cp:coreProperties>
</file>